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Click to move the slide</a:t>
            </a: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med in 2002  - an initiative between US Dept of Ed. And businesses to help K-12 education prepare students for success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Lucida Grande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Centur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gital media – videos, podcasts, mov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vironments – wikis, blogs, social networks, nings, Second Life, IM, Chat room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ersonal position paper vs. web-o-pedia, etc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888840" y="799920"/>
            <a:ext cx="7366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888840" y="39697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3440" y="186660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888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3440" y="39697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7932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870160" y="186660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88884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7932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870160" y="39697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7000"/>
          </a:bodyPr>
          <a:p>
            <a:pPr marL="574200" indent="-38628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72640" indent="-38664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70720" indent="-38628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480320" indent="-38628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78760" indent="-38664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78760" indent="-38664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78760" indent="-38664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799920"/>
            <a:ext cx="412740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3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866600"/>
            <a:ext cx="41274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7000"/>
          </a:bodyPr>
          <a:p>
            <a:pPr marL="523080" indent="-335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21520" indent="-335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335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29200" indent="-335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727640" indent="-335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727640" indent="-335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727640" indent="-335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marL="1684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68480" indent="-1684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68480" indent="-1684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68480" indent="-1684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68480" indent="-1684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68480" indent="-1684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68480" indent="-1684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460840" y="186660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8840" y="186660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5000"/>
          </a:bodyPr>
          <a:p>
            <a:pPr marL="560880" indent="-3772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52480" indent="-3776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4080" indent="-3772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446120" indent="-3772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38080" indent="-3776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38080" indent="-3776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38080" indent="-3776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88840" y="4889520"/>
            <a:ext cx="73663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74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9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>
            <a:off x="749160" y="3416400"/>
            <a:ext cx="76075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8840" y="1866600"/>
            <a:ext cx="3548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3" name=""/>
          <p:cNvSpPr/>
          <p:nvPr/>
        </p:nvSpPr>
        <p:spPr>
          <a:xfrm>
            <a:off x="8229600" y="241200"/>
            <a:ext cx="0" cy="27936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84200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 flipH="1">
            <a:off x="7721640" y="241200"/>
            <a:ext cx="279360" cy="279360"/>
          </a:xfrm>
          <a:prstGeom prst="rightArrow">
            <a:avLst>
              <a:gd name="adj1" fmla="val 40741"/>
              <a:gd name="adj2" fmla="val 72731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2760" y="228600"/>
            <a:ext cx="291960" cy="29196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youtube.com/watch?v=Qx_8gxh76i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1625760" y="1752480"/>
            <a:ext cx="5881680" cy="40006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616480" y="1147680"/>
            <a:ext cx="3909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Technology &amp; Instruction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2205000" y="1643040"/>
            <a:ext cx="6006960" cy="40384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225360" y="64296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028880" y="2476440"/>
            <a:ext cx="1993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Student Outcomes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330120" y="3905280"/>
            <a:ext cx="2146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Support Systems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3314880" y="1619280"/>
            <a:ext cx="6743520" cy="45021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0" y="736560"/>
            <a:ext cx="5105520" cy="2870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5256360" y="825480"/>
            <a:ext cx="344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The Factory Model of Education...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860640"/>
            <a:ext cx="300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... does not support 21st Century Lear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343080" y="776160"/>
            <a:ext cx="8775360" cy="5346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433880" y="1071720"/>
            <a:ext cx="627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 Bold"/>
                <a:ea typeface="Verdana Bold"/>
              </a:rPr>
              <a:t>This is 21st Century Learn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415080" y="6156720"/>
            <a:ext cx="820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“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Shifting Educational Paradigms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38160" y="406440"/>
          <a:ext cx="9067680" cy="6045120"/>
        </p:xfrm>
        <a:graphic>
          <a:graphicData uri="http://schemas.openxmlformats.org/drawingml/2006/table">
            <a:tbl>
              <a:tblPr/>
              <a:tblGrid>
                <a:gridCol w="4533840"/>
                <a:gridCol w="4533840"/>
              </a:tblGrid>
              <a:tr h="302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reativ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hoto Editing (Picni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Ani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mic Strip M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or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Blogs, Wikis, Podcasts, Screenc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0b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mmun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ex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Sky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Blo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Ema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Faceboo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odcasting, Screen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afb"/>
                    </a:solidFill>
                  </a:tcPr>
                </a:tc>
              </a:tr>
              <a:tr h="302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ritical Think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Google Docs (Spreadsheets, Forms, et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allw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N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rimary P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32f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llabor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hoto Sharing (Flickr, Pica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Google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Glog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ik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Sk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6cd4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5905440" cy="46245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157320" y="76356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4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ing technolog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, students demonstr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reative think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struct knowled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 innovative products and proces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95120" y="50976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5914440" y="5514840"/>
            <a:ext cx="319176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3"/>
              </a:rPr>
              <a:t>“The Dreaded Stairs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4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ents use 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gital media and environmen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unicate and work collaboratively, (including at a distance), to support individual learning and contribute to the learning of 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73080" y="560520"/>
            <a:ext cx="86202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ents apply 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gital tools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ather/locate inform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and select information sources based on the appropriateness to specific tas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information (process and report data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73080" y="509760"/>
            <a:ext cx="899172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4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ing appropriate digital tools and resources, students use critical thinking skills to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lan and conduct re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proj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ve problems and make informed deci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225360" y="65556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4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ents understand human, cultural, and societal 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ssues related to technolog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 practice legal and ethical behavior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lang, racial slurs, generalizations, assump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yber-bullying, copyright, plagiaris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95120" y="6238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163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4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ents demonstrate a sound understanding of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chnology concep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2552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212760" y="820800"/>
            <a:ext cx="84675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88840" y="799920"/>
            <a:ext cx="73663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“</a:t>
            </a:r>
            <a:r>
              <a:rPr b="0" lang="en-US" sz="5600" spc="-1" strike="noStrike">
                <a:solidFill>
                  <a:srgbClr val="a7aaab"/>
                </a:solidFill>
                <a:latin typeface="Gill Sans"/>
              </a:rPr>
              <a:t>Verbs” and “NETS-S”</a:t>
            </a:r>
            <a:endParaRPr b="0" lang="en-US" sz="56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88480" y="1866600"/>
            <a:ext cx="7861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Table 2.1 (pgs.48-49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esearching and Managing Inform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nking Effectivel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mmunicating and Present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nstructing and Creat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reativity and Innov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2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2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NETS-S (Performance Indic.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ff2712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712"/>
                </a:solidFill>
                <a:latin typeface="Gill Sans"/>
              </a:rPr>
              <a:t>Creativity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and Innov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ff2712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712"/>
                </a:solidFill>
                <a:latin typeface="Gill Sans"/>
              </a:rPr>
              <a:t>Communication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1600" spc="-1" strike="noStrike">
                <a:solidFill>
                  <a:srgbClr val="ff2712"/>
                </a:solidFill>
                <a:latin typeface="Gill Sans"/>
              </a:rPr>
              <a:t>Collabor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esearch and Information Fluenc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ff2712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712"/>
                </a:solidFill>
                <a:latin typeface="Gill Sans"/>
              </a:rPr>
              <a:t>Critical thinking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, Problem Solving, and Decision Mak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Digital Citizenshi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262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echnology Operations and Concep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b Smalla</dc:creator>
  <dc:description/>
  <dc:language>en-US</dc:language>
  <cp:lastModifiedBy/>
  <cp:revision>0</cp:revision>
  <dc:subject/>
  <dc:title>ISTE Technology Standards for Students</dc:title>
</cp:coreProperties>
</file>